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32E-2C80-4B60-82FB-675D2EC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A16-F279-4832-9D3D-84FF673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641-746C-485C-A3E4-0D81A7A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B39-5DC7-43E4-A640-7BAD40F6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9671-1303-4F85-9FF3-3B513B78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27AC-AD3E-4078-A08C-6B9668E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30B6-8E59-4098-A363-5610D65B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7BD6-BDFA-4834-9DDE-79FF8A6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9A9-E6AF-4F22-855D-5A301B9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8E19-571C-437E-AD73-22BF86EE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0998-E0F7-442C-91C3-0A50124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203-16E3-4DEA-8365-3FAB8418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B30F-9A94-48BE-8A11-4746066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ABE1-FDF9-4A40-B111-AC8F7D0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2957-BCA0-4BBD-9192-6E25EF3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EAA6-A8B0-4D6C-A39B-63D59CFF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469-4356-4C66-8250-BD4B182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594-7723-4D87-92B7-9B3D670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EB0-6964-4326-9ADD-91CFA21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C48-A56B-449D-A50A-0CFC3F8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208-4DDC-4674-8B92-8419E619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DAE-E875-4B34-A6D7-C8D69D0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AF5-41B8-43BE-8358-C03488D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C0F-510B-477A-A52B-CAE1FD3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25D5-F0E8-4CA8-A99D-1F320641B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5E6-B4D3-4CA3-9C33-08D68EED2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B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rope &amp; Middle East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ch Revolution &amp; Napo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cation &amp; Consolidation of Italy &amp;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1800-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&amp; Northern Europe 1848-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ial Russia, revolutions, Emergence of Soviet State, 1853-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diplomacy &amp; the First Wor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a&amp; change in the Middle East, 19114-19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ar years, 1919-19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SR &amp; eastern Europe, 1924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World War and Post War Western Europe, 1939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War Middle east, 1945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&amp; Economic developments180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me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Europe and the 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sia and Oce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ed Ho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380880" y="2133720"/>
          <a:ext cx="10134360" cy="292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10134360" cy="292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- 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Assessment (2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 - Prescribed Su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- Top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- H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Assessment (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 - Prescribed Su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- Top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3 - HL O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oups of two peruse the Gu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like, what do you dis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possible areas of overlap with current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required hours to current courses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s and issues with this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1 or 2?  SL or HL?  Which regional O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an understanding of history as a discipline, including the nature and diversity of its sources, methods and interpre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n understanding of the present through critical reflection upo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n understanding of the impact of historical developments at national, regional and internation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awareness of one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wn historical identity through the study of the historical experiences of different cul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&amp;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&amp;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s and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Histor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 vs 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= 24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 = 15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= SL = Regiona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d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Bas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 and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pecific and in-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1: Europe &amp; Islamic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cribed Subj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&amp; rise of Islam c. 500-6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ingdom of Sicily 1130-1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sties and Ru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an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s and war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, artistic and cultur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 and th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s of the history of Medieval Europe &amp; the Islamic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d Su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making and peacekeeping - international relations, 1918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ab Israeli conflict, 1945-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in Crisis, 1976-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th Century World History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, practices, effects of w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cratic states - challenges an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and development of authoritarian and single party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t and independence movements in Africa and Asia and post 1945 central and eastern Europe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s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ce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 Building &amp;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Civil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Modern nations 1865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s in Global Affairs 1880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xican Revolution 1910-1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Wor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developments 1945-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d War and the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 Rights and Social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21st Century 198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6:07:36Z</dcterms:created>
  <dc:creator>David Smith User</dc:creator>
  <dc:description/>
  <dc:language>en-US</dc:language>
  <cp:lastModifiedBy>David Smith User</cp:lastModifiedBy>
  <dcterms:modified xsi:type="dcterms:W3CDTF">2008-02-13T13:31:12Z</dcterms:modified>
  <cp:revision>24</cp:revision>
  <dc:subject/>
  <dc:title>IB History</dc:title>
</cp:coreProperties>
</file>